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1BE-1D2C-4526-A2D9-2E14AC10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05A-60C9-4553-BA92-28512EF0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2B4-C5A1-49F9-8D02-43744D34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FD8-B6F8-4AC1-85CF-0F0BA88D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9CE-ADCA-47F4-A8CD-4FFBD23C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20F-5EAB-44E3-8037-34B466DB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0D3-AC0A-4071-9F52-8FFA1346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1E1-3FD3-4A2C-854E-81A163DD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5F6-5C31-47E5-8E48-E8823F7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F52-F2AB-4955-8455-7E7ACFA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445-312D-4CD0-A9D8-F48E042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32D-AA24-46DD-8F76-763A4D2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425-2274-45A0-B85A-B3E4F60A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61722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Prefi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urlz MT"/>
              </a:rPr>
              <a:t>Suffix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05740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Gee, thanks,” said Randy, hopping on the bi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2666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See, I can be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likabl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!” said Jake with a gr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beginning of a root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pre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changes the meaning of a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44792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is a word part added to the end of a root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52388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A </a:t>
            </a:r>
            <a:r>
              <a:rPr b="0" lang="en-US" sz="6600" spc="-1" strike="noStrike">
                <a:solidFill>
                  <a:srgbClr val="ff6600"/>
                </a:solidFill>
                <a:latin typeface="Arial Rounded MT Bold"/>
              </a:rPr>
              <a:t>suffix</a:t>
            </a:r>
            <a:r>
              <a:rPr b="0" lang="en-US" sz="6600" spc="-1" strike="noStrike">
                <a:solidFill>
                  <a:srgbClr val="3333cc"/>
                </a:solidFill>
                <a:latin typeface="Arial Rounded MT Bold"/>
              </a:rPr>
              <a:t> also changes the meaning of a word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Prefixes We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209680"/>
            <a:ext cx="3124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m-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i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bi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non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dis-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not or opposit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m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i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non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350496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914400"/>
            <a:ext cx="350532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057400"/>
            <a:ext cx="350496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057400"/>
            <a:ext cx="3505320" cy="380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066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Suffixes We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209680"/>
            <a:ext cx="3124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e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one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or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one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less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  with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 Rounded MT Bold"/>
              </a:rPr>
              <a:t>-able, -ible  </a:t>
            </a:r>
            <a:r>
              <a:rPr b="0" lang="en-US" sz="2800" spc="-1" strike="noStrike">
                <a:solidFill>
                  <a:srgbClr val="ff6600"/>
                </a:solidFill>
                <a:latin typeface="Arial Rounded MT Bold"/>
              </a:rPr>
              <a:t>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286000"/>
            <a:ext cx="3124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fa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buil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ver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53352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Randy’s bike tire was flat.  He couldn’t find the pump because the garage was in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disorder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.  “It’s hopeless,” said Randy.  “I’ll never make it to the soccer game on tim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75248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	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“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That’s </a:t>
            </a:r>
            <a:r>
              <a:rPr b="0" lang="en-US" sz="4800" spc="-1" strike="noStrike">
                <a:solidFill>
                  <a:srgbClr val="ff6600"/>
                </a:solidFill>
                <a:latin typeface="Arial Rounded MT Bold"/>
              </a:rPr>
              <a:t>nonsense</a:t>
            </a:r>
            <a:r>
              <a:rPr b="0" lang="en-US" sz="4800" spc="-1" strike="noStrike">
                <a:solidFill>
                  <a:srgbClr val="009900"/>
                </a:solidFill>
                <a:latin typeface="Arial Rounded MT Bold"/>
              </a:rPr>
              <a:t>,” said his brother Jake.  “You can use my bik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2:03:29Z</dcterms:created>
  <dc:creator>Resource User</dc:creator>
  <dc:description/>
  <dc:language>en-US</dc:language>
  <cp:lastModifiedBy>Resource User</cp:lastModifiedBy>
  <dcterms:modified xsi:type="dcterms:W3CDTF">2005-07-27T02:03:47Z</dcterms:modified>
  <cp:revision>1</cp:revision>
  <dc:subject/>
  <dc:title>PowerPoint Presentation</dc:title>
</cp:coreProperties>
</file>